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8F8D-CA60-457F-94D1-9D05C192B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9CA0-4D11-42C5-8277-D4311C6B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BFD7-32D3-4CCC-A820-1222064BA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70F4-A8E6-4AED-B39C-379C81536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4536-299A-4C10-89FA-C6CA1C78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EFCB-7631-4983-B111-D7EC9BD1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76B8-AFE4-4331-B67D-ECF412FB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CC97-5766-4781-B3A6-CDD44297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AB89-2ED0-4258-81F9-C2975E8C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D17D-6D4D-4AC6-8393-EEF4E5DE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2367-2CFF-44AB-82EF-6FD4D791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FAE0-5BE9-4F64-B449-AE745971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EC36-1D9C-48DF-AED1-069B8D282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7920" y="380880"/>
            <a:ext cx="62578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2nd Industrial Revolution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1447920"/>
            <a:ext cx="459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he Steel Industr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2133720"/>
            <a:ext cx="81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The Bessemer Process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ed for faster production of st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9240" y="2514600"/>
            <a:ext cx="74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Great Lakes shipping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ught iron ore from Midw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8080" y="3124080"/>
            <a:ext cx="3191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ndrew Carnegie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80880" y="4038480"/>
            <a:ext cx="39816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he Oil Industr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972360" y="4689360"/>
            <a:ext cx="629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Edwin Drake drills for oil near Titusville, 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73640" y="5257800"/>
            <a:ext cx="35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ldcatters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 su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0880" y="5943600"/>
            <a:ext cx="51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xas oil boom also begins at this t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IN00483_" descr=""/>
          <p:cNvPicPr/>
          <p:nvPr/>
        </p:nvPicPr>
        <p:blipFill>
          <a:blip r:embed="rId1"/>
          <a:stretch/>
        </p:blipFill>
        <p:spPr>
          <a:xfrm>
            <a:off x="5715000" y="2971800"/>
            <a:ext cx="152388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9480" y="457200"/>
            <a:ext cx="4191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ransportati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1137240" y="1143000"/>
            <a:ext cx="511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ap steel leads RR to lay more tr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ks longer than eve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90720" y="2133720"/>
            <a:ext cx="6486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ranscontinental Railroad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1670760" y="2895480"/>
            <a:ext cx="61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gle line from Omaha to the Pacific Oc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5000" y="3352680"/>
            <a:ext cx="64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unk Li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Major Railr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eder or Branch Li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connect outlying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96240" y="4800600"/>
            <a:ext cx="59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George Westinghouse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d air br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97320" y="4003560"/>
            <a:ext cx="325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gauge &amp; 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BD06288_" descr=""/>
          <p:cNvPicPr/>
          <p:nvPr/>
        </p:nvPicPr>
        <p:blipFill>
          <a:blip r:embed="rId1"/>
          <a:stretch/>
        </p:blipFill>
        <p:spPr>
          <a:xfrm>
            <a:off x="2743200" y="5257800"/>
            <a:ext cx="274320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09480" y="533520"/>
            <a:ext cx="475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orseless Carriag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1366560" y="1219320"/>
            <a:ext cx="674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il allows for better production of mo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combustion engines attempted (gasol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on of a self propelled veh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1900 wealthy Americans were using automob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838080" y="3124080"/>
            <a:ext cx="23529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irplane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1441800" y="3809880"/>
            <a:ext cx="440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ternal combustion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 gliders into pl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62120" y="4724280"/>
            <a:ext cx="44766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Orville &amp; Wilbur Wright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34840" y="5222880"/>
            <a:ext cx="433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flight: Kitty Hawk, 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ed 12 seconds, went 120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TN00686_" descr=""/>
          <p:cNvPicPr/>
          <p:nvPr/>
        </p:nvPicPr>
        <p:blipFill>
          <a:blip r:embed="rId1"/>
          <a:stretch/>
        </p:blipFill>
        <p:spPr>
          <a:xfrm>
            <a:off x="6324480" y="3200400"/>
            <a:ext cx="19512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09480" y="457200"/>
            <a:ext cx="3905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ommunication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7" name=""/>
          <p:cNvSpPr/>
          <p:nvPr/>
        </p:nvSpPr>
        <p:spPr>
          <a:xfrm>
            <a:off x="1365840" y="1676520"/>
            <a:ext cx="614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Telegraph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t &amp; dash code using 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6160" y="1295280"/>
            <a:ext cx="26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muel F.B. M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080" y="2438280"/>
            <a:ext cx="32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exander Graham B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33520" y="2860560"/>
            <a:ext cx="17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leph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6880" y="3657600"/>
            <a:ext cx="472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omas Alva Edison (Menlo Par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56000" y="4232160"/>
            <a:ext cx="554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 1,0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 Bulb, Phonograph, Use of 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BD06990_" descr=""/>
          <p:cNvPicPr/>
          <p:nvPr/>
        </p:nvPicPr>
        <p:blipFill>
          <a:blip r:embed="rId1"/>
          <a:stretch/>
        </p:blipFill>
        <p:spPr>
          <a:xfrm>
            <a:off x="5486400" y="457200"/>
            <a:ext cx="1447920" cy="1228680"/>
          </a:xfrm>
          <a:prstGeom prst="rect">
            <a:avLst/>
          </a:prstGeom>
          <a:ln w="0">
            <a:noFill/>
          </a:ln>
        </p:spPr>
      </p:pic>
      <p:pic>
        <p:nvPicPr>
          <p:cNvPr id="74" name="BD04922_" descr=""/>
          <p:cNvPicPr/>
          <p:nvPr/>
        </p:nvPicPr>
        <p:blipFill>
          <a:blip r:embed="rId2"/>
          <a:stretch/>
        </p:blipFill>
        <p:spPr>
          <a:xfrm>
            <a:off x="6629400" y="2286000"/>
            <a:ext cx="154764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12:27:51Z</dcterms:created>
  <dc:creator>nalbert</dc:creator>
  <dc:description/>
  <dc:language>en-US</dc:language>
  <cp:lastModifiedBy>nalbert</cp:lastModifiedBy>
  <dcterms:modified xsi:type="dcterms:W3CDTF">2005-06-13T11:45:54Z</dcterms:modified>
  <cp:revision>8</cp:revision>
  <dc:subject/>
  <dc:title>PowerPoint Presentation</dc:title>
</cp:coreProperties>
</file>